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gif" ContentType="image/gif"/>
  <Override PartName="/ppt/media/image13.jpeg" ContentType="image/jpeg"/>
  <Override PartName="/ppt/media/image8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686D-6F00-48BF-B0F7-39D51AEE5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5789-BC1F-4177-A8BD-CDBD8AD3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4C9D42-DA2D-4BAC-B4F9-A649AE8B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75F2D-BB13-401E-9361-197EDE10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58BB8C-3739-4824-8C91-4CA6121C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D2E41B-D3F7-435F-8DBC-7418D56A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A05C5A-5182-4759-81E2-948A6249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BB26B-6711-493C-B3B5-544EF7AB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151BC3-8F92-4E61-A2FD-4DE85DA3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B22044-500F-4963-9C2F-F2CBF270A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531A9-6B38-4FC6-9648-4329DD44A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1D7C8B-306C-4AD6-A3D7-E7FB682D3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B61E-4A82-4DA8-8833-21AE7A6BC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C7EB81-0D7A-43B2-AC98-CC57102A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284AC-1124-4ADC-8672-9DAE4BA6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C83487-A405-43D7-B7E7-12FF4F00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A9A16-5677-484B-9A85-87979335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684630-0045-4BB4-9069-3ABD0D48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928CD6-63BB-4352-BBD6-F850E771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969417-5475-43E2-A0E1-C8E7893C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27714A-2B1D-4A0A-88A7-4CC6932C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C6B6E2-A05E-4487-AF85-594F81B0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2C1296-B691-4CA7-8741-52F8E3784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1D84-3C74-4820-BDBA-DAAE397F6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4661F-D3BD-42C7-81D3-506A04E36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42FE4-E603-4F82-B823-5A0AF00BF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6EA5F-829C-4AA7-8D31-AB3154C7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3D685-CDEE-466B-B7F6-855C4A1E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21ABC-B39E-4454-9DFD-3BE33C70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ADFC46-A80B-47DE-B48B-16B166A3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5D53C-7E1D-4CE0-853C-59ACC25F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6D24A-7237-4402-8C31-15E97D15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9072F8-20AA-479B-9969-A682699D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FBE8A-7042-4090-BF30-7FF59507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8F4B-374E-40E3-8F0E-D0554ACCC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7A1B1-4726-4CF9-8538-C28919F2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9C590-32B3-40F8-BE1C-A5D980E1E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5CA0D-7199-4E36-9522-4B7C7A66F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6ACD94-E4A4-49ED-AB31-9C020AD79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D0D54-DE6F-40AB-BAB4-9051414D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7B20F2-04C8-4F4C-B575-91EF8F63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B08E31-FFA9-44AF-A5D5-BEB7F942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98ECE8-A7F6-41B2-B4AD-45C94D20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41E17C-3289-481D-B775-262E43D9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0E6B93-677C-4669-8110-92794329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BE87-C447-4C62-BC27-AF656DBD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2A1BED-0A12-4D5E-AB7A-822A9F9F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753AFB-FFAB-4482-B8BE-6F2C0C00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99DE47-6FEC-4433-99AB-F36F4BAD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AD665A-4E2A-46BE-A057-07CB9ED0F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E13A34-804F-40C9-83E9-404736E19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471A0C-F2AA-4095-BB9F-81B424029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348A8F-2A25-41B0-9EDA-2EC23557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F835EC-2191-42CE-9776-94FA107E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AE0497-93B6-42E7-B6BD-BC9DF153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3C1824-6D93-4C71-983D-ADF2405C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7C56-9485-4FEB-964F-8D3B125D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1F320C-EE8D-460C-8B59-78F4C5CF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C0C914-5442-49A4-A7B3-76434238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389A18-A886-451C-BB28-2FC080D9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FE6051-C381-46B1-A532-460B2094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42E120-2339-47C1-AEEA-6E9C1245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BE20AD-A92D-44E4-99B1-7B9BEDEEA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936F9A-3903-48A4-8F38-A4EFDFA68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F0C7-8939-464D-B54B-A6E68A32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2141-1AFE-4A7F-A200-03442B74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6BD62-18ED-4FC3-A000-A7CA3208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E55E-9D26-4B94-8D3D-2AD68DC5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600B-4300-4C9C-9EA6-8A0E4EA2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943D-F6D0-4513-BE5E-0B5E1FB7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15D1-811F-4DC6-8501-C6E62DE4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DEC5-BF5E-4E12-B722-95D29A17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804A-9976-4FC6-8EF0-C0E94ED8C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6347-7EBE-46DB-8351-805A08E34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B7591-4FBC-4E19-BDCA-D10E12C8E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17E23-8197-4195-8E46-1237B4F4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CCA40-7847-4BE6-818E-405CEFA6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92AC1-C9A7-491D-B801-F9CB26AE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273E8-28D7-4203-A152-B17AFC88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6EAC-0B40-43A4-A792-FB6532BD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D5124-8DE1-44ED-8F23-6EC4D7B9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1EC46-9C0A-47A4-BAFE-DF158C50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6A907-87CB-4688-9043-92818E93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B2DC4-4BE1-4F42-9A82-A1416F7D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9EBBF-87AD-4C4B-A98F-4A6AD900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52E6D-5918-4A7A-8373-2945808C2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59881-0F66-48A7-B12D-6F30D2EAE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61869-2061-4842-AB24-8EF03650C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03B2D-32EA-43EF-93E7-40966635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0300A-FC67-424B-8101-CC2EC131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E869-F83F-4440-9E85-ED78DEDC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87AF5-0353-4F9A-8BDE-BE379C09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85238-BBE8-4279-8420-B4C81CEF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2801B-7D9D-4D25-B000-5E5AA746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98FBF-D0CA-4440-8FD8-5CA46C90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7FF6D-1893-4509-A358-E09C8EB6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93B0F-40F4-459E-A892-9178C89D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86CA7-EFFD-4BB0-9BB1-92FF8E20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3D63D-D704-4068-9DEE-1FD56ED23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9069D-759C-44BB-B619-3A40B12A9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98413-A9C4-4842-8321-A3AF9EEB5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7462-5B48-4064-B516-FE2D6216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518BF-2A52-4D85-952B-B1C1D24E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10D41-FBF3-46F3-8A07-4ED85F00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353E9-3A17-4405-9797-2F05BB58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F2C1F-D1D0-4CC8-B2FE-DAACB911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76B04-2F16-4BF8-AC8B-A1CFC976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8763C-04A4-4C60-B000-8F8E4189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5C46B-71D4-4E12-A7A3-78F989B6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991C0-87B4-4791-92DE-196AF41E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98CD0-8719-4A20-BE17-9B042E7A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997D5-57ED-47F3-894F-74B4D0903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14D9-1B5C-4EC6-8251-EBBB989C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E9A3E-D725-4CD7-AF3A-3D252ADA6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CBCD6-B912-43C7-A8F6-43C422B32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B8A04-6634-4DFD-AA7E-82A6DA84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9D531-E8A6-4972-9EE3-4D6446E0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4E2C4-A352-4410-AC14-99A86D8F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4D05D-D11E-4E8E-9516-53F9CB0F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A2FEE-080B-4637-89E9-C3F348FC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19691-8D53-4196-A7E4-3EBA0A00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32073-3914-46E7-9BB6-CB25683B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09505-1A59-4789-8FF4-CC3C7BE6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511B-A1E5-4092-96D3-B597ED4E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38A86-304E-4167-94AE-2C534709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9047C-1F85-4072-A77D-C8B9A5CFC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99EE6-A926-470C-A5D5-DB5D18E37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43749-8B74-47C4-81A0-F67C0D502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48140-1E08-4F85-A976-90C208BC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49A42-6727-4F16-802C-F5214FB8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EBF58-3A42-4241-A480-A378F5DB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021C2-D24A-42E1-B1C3-10840EFD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E3E72-9E49-4EA9-9124-9C2A55E8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7E57D-51A5-4376-87D4-90F03A9E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F9D4-80FA-4270-8B35-95EF2BDC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2ACDD-99BB-4369-970E-A76347B7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79399-140E-45AD-8100-9B871201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EF4C7-CF05-4793-A0F5-09C44C3A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A493F-6210-4D44-AD84-D94F06209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D83F2-BA1F-4B60-922C-C9BEDE69E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0217D-AACC-457A-A06E-B9C39977B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40E66-24B6-4F86-8956-76F96035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92294-0BF1-43CF-99AA-1B386528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E0EFC-D30D-4643-870C-46D5DFE4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6C665-6BD8-4528-9C4E-8EB0016E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5759-D0B9-4F6E-8874-B6724E97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21A4B-830C-45C0-9C64-E0E653AC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04428-7CE3-4240-A150-03EB02EE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9699A-510D-4328-BFFE-FE26D0F6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F3753-99D8-4769-8BA6-F59B824E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FEDE0-1C1C-4E26-A343-53ABE740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C06D8-9F58-4C8F-8E94-229D5B1ED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59697-1E3A-4F5F-8E24-AE89C4CFA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645D6-EE0B-469D-9071-29F6021FC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23309-E9AD-4134-A6F7-D4E9ACD2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F1D01-7312-4605-83CD-FA8A40BF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09B2-59F8-4C72-87AE-D70E2CDE8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1e7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FCF9-4012-4267-8A21-1663EEC2C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1e7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0F44-EC9F-49B9-91FD-4D16CA67E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1e7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3D89-89F8-44CA-A1DB-207A45D61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1e7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506B-47B7-423D-9BB0-0752CEF5F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1e7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6F8C-B5B1-47E4-B040-5D7AC19CC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1e7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BF90-FE7B-439E-A7F3-BA4FDEE20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1e7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C12E-C021-4EA8-AD77-5062810E1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1e7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E1BF-1F7F-4D98-8A2D-F34A410DD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1e7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6B90-BBEE-4CC5-970D-641852158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1e7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2345-E564-4A7C-AB4D-123B49354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1e7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3A52-8336-4D19-9C7E-1D04919C7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1e7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615C-6C90-44CF-BA41-CD67C7F55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n.wikipedia.org/wiki/I" TargetMode="External"/><Relationship Id="rId3" Type="http://schemas.openxmlformats.org/officeDocument/2006/relationships/hyperlink" Target="http://en.wikipedia.org/wiki/1_%28number%29" TargetMode="External"/><Relationship Id="rId4" Type="http://schemas.openxmlformats.org/officeDocument/2006/relationships/hyperlink" Target="http://en.wikipedia.org/wiki/V" TargetMode="External"/><Relationship Id="rId5" Type="http://schemas.openxmlformats.org/officeDocument/2006/relationships/hyperlink" Target="http://en.wikipedia.org/wiki/5_%28number%29" TargetMode="External"/><Relationship Id="rId6" Type="http://schemas.openxmlformats.org/officeDocument/2006/relationships/hyperlink" Target="http://en.wikipedia.org/wiki/X" TargetMode="External"/><Relationship Id="rId7" Type="http://schemas.openxmlformats.org/officeDocument/2006/relationships/hyperlink" Target="http://en.wikipedia.org/wiki/10_%28number%29" TargetMode="External"/><Relationship Id="rId8" Type="http://schemas.openxmlformats.org/officeDocument/2006/relationships/hyperlink" Target="http://en.wikipedia.org/wiki/L" TargetMode="External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6"/>
          <p:cNvSpPr/>
          <p:nvPr/>
        </p:nvSpPr>
        <p:spPr>
          <a:xfrm>
            <a:off x="0" y="0"/>
            <a:ext cx="5105520" cy="13262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enda, 3-23 &amp; 2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B.Pop Pax Romana Due  Fri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Growth of Rome Map Due Fri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7"/>
          <p:cNvSpPr/>
          <p:nvPr/>
        </p:nvSpPr>
        <p:spPr>
          <a:xfrm>
            <a:off x="0" y="1295280"/>
            <a:ext cx="5105520" cy="2345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cus:  Write the Roman Num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 23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 172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 78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  876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9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7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26" descr="school1"/>
          <p:cNvPicPr/>
          <p:nvPr/>
        </p:nvPicPr>
        <p:blipFill>
          <a:blip r:embed="rId1"/>
          <a:stretch/>
        </p:blipFill>
        <p:spPr>
          <a:xfrm>
            <a:off x="5791320" y="304920"/>
            <a:ext cx="2286000" cy="297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6" name=""/>
          <p:cNvGraphicFramePr/>
          <p:nvPr/>
        </p:nvGraphicFramePr>
        <p:xfrm>
          <a:off x="228600" y="3733920"/>
          <a:ext cx="4191120" cy="2930400"/>
        </p:xfrm>
        <a:graphic>
          <a:graphicData uri="http://schemas.openxmlformats.org/drawingml/2006/table">
            <a:tbl>
              <a:tblPr/>
              <a:tblGrid>
                <a:gridCol w="1009800"/>
                <a:gridCol w="3181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/>
                        </a:rPr>
                        <a:t>on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u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(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/>
                        </a:rPr>
                        <a:t>f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nq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(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/>
                        </a:rPr>
                        <a:t>te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e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(fifty)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nquagint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(one hundred)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u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(five hundred)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ngent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 (one thousand)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7" name="Text Box 68"/>
          <p:cNvSpPr/>
          <p:nvPr/>
        </p:nvSpPr>
        <p:spPr>
          <a:xfrm>
            <a:off x="5181480" y="3465360"/>
            <a:ext cx="3276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smaller numbers follow larger numbers, the numbers are added. If a smaller number precedes a larger number, the smaller number is subtracted from the larger. For examp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 = 5+3 = 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X = 10-1 = 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L = 50-10 = 4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C = 100-10 = 9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CMLXXXIV = 1000+(1000-100)+50+30+(5-1) = 198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29"/>
          <p:cNvSpPr/>
          <p:nvPr/>
        </p:nvSpPr>
        <p:spPr>
          <a:xfrm>
            <a:off x="685800" y="16765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XX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30"/>
          <p:cNvSpPr/>
          <p:nvPr/>
        </p:nvSpPr>
        <p:spPr>
          <a:xfrm>
            <a:off x="762120" y="1981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LXX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31"/>
          <p:cNvSpPr/>
          <p:nvPr/>
        </p:nvSpPr>
        <p:spPr>
          <a:xfrm>
            <a:off x="685800" y="22860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XXV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32"/>
          <p:cNvSpPr/>
          <p:nvPr/>
        </p:nvSpPr>
        <p:spPr>
          <a:xfrm>
            <a:off x="762120" y="25909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CCCLXX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33"/>
          <p:cNvSpPr/>
          <p:nvPr/>
        </p:nvSpPr>
        <p:spPr>
          <a:xfrm>
            <a:off x="762120" y="29718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XXX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34"/>
          <p:cNvSpPr/>
          <p:nvPr/>
        </p:nvSpPr>
        <p:spPr>
          <a:xfrm>
            <a:off x="838080" y="32767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DV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Colosseum_outside"/>
          <p:cNvPicPr/>
          <p:nvPr/>
        </p:nvPicPr>
        <p:blipFill>
          <a:blip r:embed="rId1"/>
          <a:stretch/>
        </p:blipFill>
        <p:spPr>
          <a:xfrm>
            <a:off x="609480" y="1219320"/>
            <a:ext cx="7772400" cy="5638680"/>
          </a:xfrm>
          <a:prstGeom prst="rect">
            <a:avLst/>
          </a:prstGeom>
          <a:ln w="0">
            <a:noFill/>
          </a:ln>
        </p:spPr>
      </p:pic>
      <p:sp>
        <p:nvSpPr>
          <p:cNvPr id="563" name="WordArt 3"/>
          <p:cNvSpPr txBox="1"/>
          <p:nvPr/>
        </p:nvSpPr>
        <p:spPr>
          <a:xfrm>
            <a:off x="2971800" y="304920"/>
            <a:ext cx="2733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Colosseu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2" descr="reconstruction drawing of Colosseum"/>
          <p:cNvPicPr/>
          <p:nvPr/>
        </p:nvPicPr>
        <p:blipFill>
          <a:blip r:embed="rId1"/>
          <a:stretch/>
        </p:blipFill>
        <p:spPr>
          <a:xfrm>
            <a:off x="380880" y="533520"/>
            <a:ext cx="8077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colo2_s"/>
          <p:cNvPicPr/>
          <p:nvPr/>
        </p:nvPicPr>
        <p:blipFill>
          <a:blip r:embed="rId1"/>
          <a:stretch/>
        </p:blipFill>
        <p:spPr>
          <a:xfrm>
            <a:off x="228600" y="380880"/>
            <a:ext cx="4038480" cy="42674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coloseum"/>
          <p:cNvPicPr/>
          <p:nvPr/>
        </p:nvPicPr>
        <p:blipFill>
          <a:blip r:embed="rId2"/>
          <a:stretch/>
        </p:blipFill>
        <p:spPr>
          <a:xfrm>
            <a:off x="4343400" y="2666880"/>
            <a:ext cx="480060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roman Coliseum"/>
          <p:cNvPicPr/>
          <p:nvPr/>
        </p:nvPicPr>
        <p:blipFill>
          <a:blip r:embed="rId1"/>
          <a:stretch/>
        </p:blipFill>
        <p:spPr>
          <a:xfrm>
            <a:off x="609480" y="533520"/>
            <a:ext cx="77724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2" descr="Colosseum_underground"/>
          <p:cNvPicPr/>
          <p:nvPr/>
        </p:nvPicPr>
        <p:blipFill>
          <a:blip r:embed="rId1"/>
          <a:stretch/>
        </p:blipFill>
        <p:spPr>
          <a:xfrm>
            <a:off x="1523880" y="1380960"/>
            <a:ext cx="6096240" cy="40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cid_aj1301_b"/>
          <p:cNvPicPr/>
          <p:nvPr/>
        </p:nvPicPr>
        <p:blipFill>
          <a:blip r:embed="rId1"/>
          <a:stretch/>
        </p:blipFill>
        <p:spPr>
          <a:xfrm>
            <a:off x="361800" y="561960"/>
            <a:ext cx="84204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2" descr="cid_aj1303_b"/>
          <p:cNvPicPr/>
          <p:nvPr/>
        </p:nvPicPr>
        <p:blipFill>
          <a:blip r:embed="rId1"/>
          <a:stretch/>
        </p:blipFill>
        <p:spPr>
          <a:xfrm>
            <a:off x="361800" y="561960"/>
            <a:ext cx="84204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266720" y="60912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Great Builders of Ol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ivilization is so identified with constructing and building things than the Roman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queducts, roads, baths, walls, theatres, temples, arches, cities, palaces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y built a world from which later peoples still benefitted for a long time to com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me of their old roads are even still in use today. So too, some of their great amphitheatres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4" descr="http://rome.mrdonn.org/rome04.gif"/>
          <p:cNvPicPr/>
          <p:nvPr/>
        </p:nvPicPr>
        <p:blipFill>
          <a:blip r:embed="rId1"/>
          <a:stretch/>
        </p:blipFill>
        <p:spPr>
          <a:xfrm>
            <a:off x="0" y="0"/>
            <a:ext cx="41911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4" descr="pantheon_s"/>
          <p:cNvPicPr/>
          <p:nvPr/>
        </p:nvPicPr>
        <p:blipFill>
          <a:blip r:embed="rId1"/>
          <a:srcRect l="0" t="6124" r="0" b="0"/>
          <a:stretch/>
        </p:blipFill>
        <p:spPr>
          <a:xfrm>
            <a:off x="0" y="0"/>
            <a:ext cx="5029200" cy="3505320"/>
          </a:xfrm>
          <a:prstGeom prst="rect">
            <a:avLst/>
          </a:prstGeom>
          <a:ln w="0">
            <a:noFill/>
          </a:ln>
        </p:spPr>
      </p:pic>
      <p:sp>
        <p:nvSpPr>
          <p:cNvPr id="548" name="WordArt 7"/>
          <p:cNvSpPr txBox="1"/>
          <p:nvPr/>
        </p:nvSpPr>
        <p:spPr>
          <a:xfrm>
            <a:off x="914400" y="4419720"/>
            <a:ext cx="2362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nthe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49" name="Picture 9" descr="model_Pantheon_model"/>
          <p:cNvPicPr/>
          <p:nvPr/>
        </p:nvPicPr>
        <p:blipFill>
          <a:blip r:embed="rId2"/>
          <a:stretch/>
        </p:blipFill>
        <p:spPr>
          <a:xfrm>
            <a:off x="4038480" y="3490920"/>
            <a:ext cx="510552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5" descr="Pantheon_Dome"/>
          <p:cNvPicPr/>
          <p:nvPr/>
        </p:nvPicPr>
        <p:blipFill>
          <a:blip r:embed="rId1"/>
          <a:stretch/>
        </p:blipFill>
        <p:spPr>
          <a:xfrm>
            <a:off x="228600" y="380880"/>
            <a:ext cx="4191120" cy="30909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6" descr="pcd03-10"/>
          <p:cNvPicPr/>
          <p:nvPr/>
        </p:nvPicPr>
        <p:blipFill>
          <a:blip r:embed="rId2"/>
          <a:stretch/>
        </p:blipFill>
        <p:spPr>
          <a:xfrm>
            <a:off x="4724280" y="380880"/>
            <a:ext cx="4038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4" descr="arches of an aqueduct"/>
          <p:cNvPicPr/>
          <p:nvPr/>
        </p:nvPicPr>
        <p:blipFill>
          <a:blip r:embed="rId1"/>
          <a:stretch/>
        </p:blipFill>
        <p:spPr>
          <a:xfrm>
            <a:off x="762120" y="1752480"/>
            <a:ext cx="7696080" cy="4257720"/>
          </a:xfrm>
          <a:prstGeom prst="rect">
            <a:avLst/>
          </a:prstGeom>
          <a:ln w="0">
            <a:noFill/>
          </a:ln>
        </p:spPr>
      </p:pic>
      <p:sp>
        <p:nvSpPr>
          <p:cNvPr id="553" name="WordArt 5"/>
          <p:cNvSpPr txBox="1"/>
          <p:nvPr/>
        </p:nvSpPr>
        <p:spPr>
          <a:xfrm>
            <a:off x="2895480" y="838080"/>
            <a:ext cx="263844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quedu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4" descr="archcon10"/>
          <p:cNvPicPr/>
          <p:nvPr/>
        </p:nvPicPr>
        <p:blipFill>
          <a:blip r:embed="rId1"/>
          <a:srcRect l="0" t="11447" r="0" b="0"/>
          <a:stretch/>
        </p:blipFill>
        <p:spPr>
          <a:xfrm>
            <a:off x="685800" y="533520"/>
            <a:ext cx="7391520" cy="4952880"/>
          </a:xfrm>
          <a:prstGeom prst="rect">
            <a:avLst/>
          </a:prstGeom>
          <a:ln w="0">
            <a:noFill/>
          </a:ln>
        </p:spPr>
      </p:pic>
      <p:sp>
        <p:nvSpPr>
          <p:cNvPr id="555" name="WordArt 7"/>
          <p:cNvSpPr txBox="1"/>
          <p:nvPr/>
        </p:nvSpPr>
        <p:spPr>
          <a:xfrm>
            <a:off x="2057400" y="5638680"/>
            <a:ext cx="4724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stantine's Ar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" descr="keystn1"/>
          <p:cNvPicPr/>
          <p:nvPr/>
        </p:nvPicPr>
        <p:blipFill>
          <a:blip r:embed="rId1"/>
          <a:stretch/>
        </p:blipFill>
        <p:spPr>
          <a:xfrm>
            <a:off x="1905120" y="228600"/>
            <a:ext cx="5486400" cy="513396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3"/>
          <p:cNvSpPr/>
          <p:nvPr/>
        </p:nvSpPr>
        <p:spPr>
          <a:xfrm>
            <a:off x="914400" y="57150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eyst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most important stone in an arch bridge, without this stone the arch would collapse. The keystone holds the arch togeth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" descr="keystone"/>
          <p:cNvPicPr/>
          <p:nvPr/>
        </p:nvPicPr>
        <p:blipFill>
          <a:blip r:embed="rId1"/>
          <a:stretch/>
        </p:blipFill>
        <p:spPr>
          <a:xfrm>
            <a:off x="685800" y="685800"/>
            <a:ext cx="7543800" cy="457200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3"/>
          <p:cNvSpPr/>
          <p:nvPr/>
        </p:nvSpPr>
        <p:spPr>
          <a:xfrm>
            <a:off x="990720" y="548640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an arch can be built a wooden frame is built. This allows the stones to be put in position. The frame is removed after the stones are in pos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KeystoneBoss"/>
          <p:cNvPicPr/>
          <p:nvPr/>
        </p:nvPicPr>
        <p:blipFill>
          <a:blip r:embed="rId1"/>
          <a:stretch/>
        </p:blipFill>
        <p:spPr>
          <a:xfrm>
            <a:off x="609480" y="457200"/>
            <a:ext cx="7772400" cy="5105520"/>
          </a:xfrm>
          <a:prstGeom prst="rect">
            <a:avLst/>
          </a:prstGeom>
          <a:ln w="0">
            <a:noFill/>
          </a:ln>
        </p:spPr>
      </p:pic>
      <p:sp>
        <p:nvSpPr>
          <p:cNvPr id="561" name="AutoShape 3">
            <a:hlinkClick r:id="" action="ppaction://hlinkshowjump?jump=firstslide"/>
          </p:cNvPr>
          <p:cNvSpPr/>
          <p:nvPr/>
        </p:nvSpPr>
        <p:spPr>
          <a:xfrm>
            <a:off x="4191120" y="5638680"/>
            <a:ext cx="761760" cy="91440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26">
                <a:moveTo>
                  <a:pt x="0" y="0"/>
                </a:moveTo>
                <a:lnTo>
                  <a:pt x="21600" y="0"/>
                </a:lnTo>
                <a:lnTo>
                  <a:pt x="21600" y="25926"/>
                </a:lnTo>
                <a:lnTo>
                  <a:pt x="0" y="25926"/>
                </a:lnTo>
                <a:close/>
              </a:path>
              <a:path fill="lightenLess" w="21600" h="259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6">
                <a:moveTo>
                  <a:pt x="21600" y="0"/>
                </a:moveTo>
                <a:lnTo>
                  <a:pt x="21600" y="25926"/>
                </a:lnTo>
                <a:lnTo>
                  <a:pt x="20200" y="24526"/>
                </a:lnTo>
                <a:lnTo>
                  <a:pt x="20200" y="1400"/>
                </a:lnTo>
                <a:close/>
              </a:path>
              <a:path fill="darkenLess" w="21600" h="25926">
                <a:moveTo>
                  <a:pt x="21600" y="25926"/>
                </a:moveTo>
                <a:lnTo>
                  <a:pt x="0" y="25926"/>
                </a:lnTo>
                <a:lnTo>
                  <a:pt x="1400" y="24526"/>
                </a:lnTo>
                <a:lnTo>
                  <a:pt x="20200" y="24526"/>
                </a:lnTo>
                <a:close/>
              </a:path>
              <a:path fill="lighten" w="21600" h="25926">
                <a:moveTo>
                  <a:pt x="0" y="259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6"/>
                </a:lnTo>
                <a:close/>
              </a:path>
              <a:path fill="darken" w="21600" h="25926">
                <a:moveTo>
                  <a:pt x="10800" y="6000"/>
                </a:moveTo>
                <a:lnTo>
                  <a:pt x="13376" y="8611"/>
                </a:lnTo>
                <a:lnTo>
                  <a:pt x="13376" y="6870"/>
                </a:lnTo>
                <a:lnTo>
                  <a:pt x="15152" y="6870"/>
                </a:lnTo>
                <a:lnTo>
                  <a:pt x="15152" y="10387"/>
                </a:lnTo>
                <a:lnTo>
                  <a:pt x="17763" y="12963"/>
                </a:lnTo>
                <a:lnTo>
                  <a:pt x="16109" y="12963"/>
                </a:lnTo>
                <a:lnTo>
                  <a:pt x="16109" y="20152"/>
                </a:lnTo>
                <a:lnTo>
                  <a:pt x="5491" y="20152"/>
                </a:lnTo>
                <a:lnTo>
                  <a:pt x="5491" y="12963"/>
                </a:lnTo>
                <a:lnTo>
                  <a:pt x="3837" y="12963"/>
                </a:lnTo>
                <a:close/>
              </a:path>
              <a:path fill="darkenLess" w="21600" h="25926">
                <a:moveTo>
                  <a:pt x="13376" y="8611"/>
                </a:moveTo>
                <a:lnTo>
                  <a:pt x="13376" y="6870"/>
                </a:lnTo>
                <a:lnTo>
                  <a:pt x="15152" y="6870"/>
                </a:lnTo>
                <a:lnTo>
                  <a:pt x="15152" y="10387"/>
                </a:lnTo>
                <a:close/>
              </a:path>
              <a:path fill="darkenLess" w="21600" h="25926">
                <a:moveTo>
                  <a:pt x="9877" y="16462"/>
                </a:moveTo>
                <a:lnTo>
                  <a:pt x="11723" y="16462"/>
                </a:lnTo>
                <a:lnTo>
                  <a:pt x="11723" y="20152"/>
                </a:lnTo>
                <a:lnTo>
                  <a:pt x="16109" y="20152"/>
                </a:lnTo>
                <a:lnTo>
                  <a:pt x="16109" y="12963"/>
                </a:lnTo>
                <a:lnTo>
                  <a:pt x="5491" y="12963"/>
                </a:lnTo>
                <a:lnTo>
                  <a:pt x="5491" y="20152"/>
                </a:lnTo>
                <a:lnTo>
                  <a:pt x="9877" y="2015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19:25:31Z</dcterms:created>
  <dc:creator>Selena Ramsey</dc:creator>
  <dc:description/>
  <dc:language>en-US</dc:language>
  <cp:lastModifiedBy>poweruser</cp:lastModifiedBy>
  <dcterms:modified xsi:type="dcterms:W3CDTF">2011-03-22T21:24:10Z</dcterms:modified>
  <cp:revision>31</cp:revision>
  <dc:subject/>
  <dc:title>Slide 1</dc:title>
</cp:coreProperties>
</file>